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525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23EC-D9AE-437D-B6A8-5BFD443EA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1424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14240" y="1981080"/>
            <a:ext cx="809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14240" y="4130640"/>
            <a:ext cx="809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F5AF-A116-415D-912C-8FA71A170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1424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14240" y="1981080"/>
            <a:ext cx="395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63240" y="1981080"/>
            <a:ext cx="395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14240" y="4130640"/>
            <a:ext cx="395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63240" y="4130640"/>
            <a:ext cx="395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8D42-FF66-4E39-BE5D-4354B7137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1424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14240" y="198108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1680" y="198108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9120" y="198108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14240" y="413064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1680" y="413064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9120" y="413064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7997-177E-4053-9A2F-3B69334BB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1424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14240" y="1981080"/>
            <a:ext cx="809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357E-8E80-4D30-AA1D-87C1F88FA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1424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14240" y="1981080"/>
            <a:ext cx="809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8261-B98F-4494-8E10-BE0595B70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1424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14240" y="1981080"/>
            <a:ext cx="395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63240" y="1981080"/>
            <a:ext cx="395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9781-E2EF-4FC5-9B1D-97590CF9B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424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2A71-EB00-4B94-9389-8D62787C9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14240" y="609120"/>
            <a:ext cx="8096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C46C-D042-4445-A995-82BF66680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1424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14240" y="1981080"/>
            <a:ext cx="395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63240" y="1981080"/>
            <a:ext cx="395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14240" y="4130640"/>
            <a:ext cx="395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F713-F867-4287-AB31-A4B3A840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1424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14240" y="1981080"/>
            <a:ext cx="395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63240" y="1981080"/>
            <a:ext cx="395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63240" y="4130640"/>
            <a:ext cx="395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51C7-1FD3-4A46-BBC5-53745D1B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1424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14240" y="1981080"/>
            <a:ext cx="395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63240" y="1981080"/>
            <a:ext cx="395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14240" y="4130640"/>
            <a:ext cx="809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7B7E-4105-46C0-8417-E0284A82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424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4240" y="1981080"/>
            <a:ext cx="809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13880" y="6248520"/>
            <a:ext cx="1984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54400" y="6248520"/>
            <a:ext cx="301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6320" y="6248520"/>
            <a:ext cx="19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74C7-B020-4546-9E5E-1EBC1A7473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803920" y="457200"/>
            <a:ext cx="3249720" cy="4457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84120" y="2743200"/>
            <a:ext cx="5064120" cy="3276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0" y="6324480"/>
            <a:ext cx="95248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3600" y="358920"/>
            <a:ext cx="510516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OUTORGA DE DIREITO DE USO DA ÁGUA NA MINERAÇÃ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EXPERIÊNCIA DO ESTADO DE MINAS GER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518148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Maria Luiza Silva Ram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4120" y="571500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rasília, março de 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8997840" y="6381720"/>
            <a:ext cx="500040" cy="4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33520" y="836640"/>
            <a:ext cx="8991360" cy="55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ase de Execução do Proje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nformações solicitad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Modelo hidrogeológico conceitual e numérico de fluxo subterrâneo da área de influênci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Dados consistidos da rede de monitoramento operad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Inventário dos pontos d’água e dos usuários de águas superficiais e subterrâneas na área de influênci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Projeto do sistema de rebaixamento de nível d’água (estruturas de captação, vazão máxima, NA projetado...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Plano de manejo da água explotada no rebaixament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Plano de prevenção, controle e mitigação de impacto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Outros dados específicos ao empreendim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6324480"/>
            <a:ext cx="95248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997840" y="6381720"/>
            <a:ext cx="500040" cy="439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57200" y="380880"/>
            <a:ext cx="891540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OUTORGA PARA REBAIXAMENTO DE NÍVEL D’ÁGU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295280" y="1467000"/>
            <a:ext cx="708660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QUAL O FOCO DE ANÁLISE DO IG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Avaliação das interferências e impactos, quantitativos e qualitativos, que a atividade de rebaixamento de nível d’água poderá causar nos recursos hídricos na área de influência do empreendim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380880"/>
            <a:ext cx="891540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OUTORGA PARA REBAIXAMENTO DE NÍVEL D’ÁGU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324480"/>
            <a:ext cx="95248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997840" y="6381720"/>
            <a:ext cx="500040" cy="4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1295280"/>
            <a:ext cx="8077320" cy="33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3760" indent="-293760" algn="ctr">
              <a:lnSpc>
                <a:spcPct val="12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Arial"/>
              </a:rPr>
              <a:t>O QUE É OUTORGADO</a:t>
            </a:r>
            <a:r>
              <a:rPr b="0" lang="pt-PT" sz="2400" spc="-1" strike="noStrike">
                <a:solidFill>
                  <a:srgbClr val="ffcc00"/>
                </a:solidFill>
                <a:latin typeface="Arial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 algn="just">
              <a:lnSpc>
                <a:spcPct val="120000"/>
              </a:lnSpc>
              <a:spcBef>
                <a:spcPts val="2401"/>
              </a:spcBef>
              <a:buClr>
                <a:srgbClr val="00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ffff"/>
                </a:solidFill>
                <a:latin typeface="Arial"/>
              </a:rPr>
              <a:t>A outorga </a:t>
            </a:r>
            <a:r>
              <a:rPr b="0" lang="pt-PT" sz="2400" spc="-1" strike="noStrike">
                <a:solidFill>
                  <a:srgbClr val="00ffff"/>
                </a:solidFill>
                <a:latin typeface="Arial"/>
              </a:rPr>
              <a:t>é concedida para a vazão do “Sistema de Rebaixamento” e não para cada estrutura de captação de água subterrân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 algn="just">
              <a:lnSpc>
                <a:spcPct val="120000"/>
              </a:lnSpc>
              <a:spcBef>
                <a:spcPts val="2401"/>
              </a:spcBef>
              <a:buClr>
                <a:srgbClr val="00ffff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ffff"/>
                </a:solidFill>
                <a:latin typeface="Arial"/>
              </a:rPr>
              <a:t>A finalidade de uso da água é o rebaixamento de NA, independentemente da forma de captação no aqüífer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380880"/>
            <a:ext cx="891540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OUTORGA PARA REBAIXAMENTO DE NÍVEL D’ÁGU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6324480"/>
            <a:ext cx="95248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997840" y="6381720"/>
            <a:ext cx="500040" cy="4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143000" y="1197000"/>
            <a:ext cx="7467480" cy="51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ffff"/>
                </a:solidFill>
                <a:latin typeface="Arial"/>
              </a:rPr>
              <a:t>Fase de Projeto e Pesquisa Hidrogeoló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ffff"/>
                </a:solidFill>
                <a:latin typeface="Wingdings 3"/>
                <a:ea typeface="Wingdings 3"/>
              </a:rPr>
              <a:t></a:t>
            </a:r>
            <a:r>
              <a:rPr b="1" lang="pt-BR" sz="2800" spc="-1" strike="noStrike">
                <a:solidFill>
                  <a:srgbClr val="00ffff"/>
                </a:solidFill>
                <a:latin typeface="Arial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Arial"/>
              </a:rPr>
              <a:t>Outorga para Pesquisa Hidrogeoló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(validade de acordo com o cronograma pesquisa, podendo ser renov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ffff"/>
                </a:solidFill>
                <a:latin typeface="Arial"/>
              </a:rPr>
              <a:t>Fase de Execução do Proj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ffff"/>
                </a:solidFill>
                <a:latin typeface="Wingdings 3"/>
                <a:ea typeface="Wingdings 3"/>
              </a:rPr>
              <a:t></a:t>
            </a:r>
            <a:r>
              <a:rPr b="1" lang="pt-BR" sz="2800" spc="-1" strike="noStrike">
                <a:solidFill>
                  <a:srgbClr val="00ffff"/>
                </a:solidFill>
                <a:latin typeface="Arial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Arial"/>
              </a:rPr>
              <a:t>Outorga para Rebaixamento de Nível D’á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(validade de 2 anos, renováve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ffff"/>
                </a:solidFill>
                <a:latin typeface="Arial"/>
              </a:rPr>
              <a:t>Outorgas com condicion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380880"/>
            <a:ext cx="891540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OUTORGA PARA REBAIXAMENTO DE NÍVEL D’ÁGU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6324480"/>
            <a:ext cx="95248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997840" y="6381720"/>
            <a:ext cx="500040" cy="4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304920"/>
            <a:ext cx="830592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FLUXOGRAMA GERAL DO USO DA ÁGU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00"/>
                </a:solidFill>
                <a:latin typeface="Arial"/>
              </a:rPr>
              <a:t>Mineração de Ferro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 com Beneficiamen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6324480"/>
            <a:ext cx="95248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997840" y="6381720"/>
            <a:ext cx="500040" cy="4399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392640" y="2590920"/>
            <a:ext cx="25146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Benefici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35240" y="1600200"/>
            <a:ext cx="99036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35840" y="1600200"/>
            <a:ext cx="25146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orpo de á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659040" y="4648320"/>
            <a:ext cx="19814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Barr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6745320" y="2209680"/>
            <a:ext cx="838080" cy="914400"/>
          </a:xfrm>
          <a:custGeom>
            <a:avLst/>
            <a:gdLst>
              <a:gd name="textAreaLeft" fmla="*/ 0 w 838080"/>
              <a:gd name="textAreaRight" fmla="*/ 838440 w 8380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rot="10800000">
            <a:off x="1638720" y="2209680"/>
            <a:ext cx="838440" cy="914400"/>
          </a:xfrm>
          <a:custGeom>
            <a:avLst/>
            <a:gdLst>
              <a:gd name="textAreaLeft" fmla="*/ -360 w 838440"/>
              <a:gd name="textAreaRight" fmla="*/ 838440 w 8384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54440" y="3505320"/>
            <a:ext cx="533520" cy="990360"/>
          </a:xfrm>
          <a:prstGeom prst="downArrow">
            <a:avLst>
              <a:gd name="adj1" fmla="val 50000"/>
              <a:gd name="adj2" fmla="val 4640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0800000">
            <a:off x="5087880" y="3276360"/>
            <a:ext cx="533520" cy="990360"/>
          </a:xfrm>
          <a:prstGeom prst="downArrow">
            <a:avLst>
              <a:gd name="adj1" fmla="val 50000"/>
              <a:gd name="adj2" fmla="val 4640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383000" y="5257800"/>
            <a:ext cx="533520" cy="762120"/>
          </a:xfrm>
          <a:prstGeom prst="downArrow">
            <a:avLst>
              <a:gd name="adj1" fmla="val 50000"/>
              <a:gd name="adj2" fmla="val 35712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58920" y="310824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ebaix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21640" y="31240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apt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38440" y="31240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eje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02080" y="426708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ecircul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41720" y="60040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flu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99960"/>
            <a:ext cx="8001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SIDERAÇÕES FIN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1336680"/>
            <a:ext cx="853452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80880" algn="just">
              <a:lnSpc>
                <a:spcPct val="100000"/>
              </a:lnSpc>
              <a:spcBef>
                <a:spcPts val="29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ffff"/>
                </a:solidFill>
                <a:latin typeface="Arial"/>
              </a:rPr>
              <a:t>Minas Gerais é um Estado com forte vocação para desenvolvimento de atividades minerária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380880" algn="just">
              <a:lnSpc>
                <a:spcPct val="100000"/>
              </a:lnSpc>
              <a:spcBef>
                <a:spcPts val="29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ffff"/>
                </a:solidFill>
                <a:latin typeface="Arial"/>
              </a:rPr>
              <a:t>A mineração é uma atividade dinâmica do ponto de vista do uso de recursos hídrico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380880" algn="just">
              <a:lnSpc>
                <a:spcPct val="100000"/>
              </a:lnSpc>
              <a:spcBef>
                <a:spcPts val="29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ffff"/>
                </a:solidFill>
                <a:latin typeface="Arial"/>
              </a:rPr>
              <a:t>A mineração normalmente utiliza grandes volumes de água em seus processos </a:t>
            </a:r>
            <a:r>
              <a:rPr b="0" lang="pt-PT" sz="24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pt-PT" sz="2400" spc="-1" strike="noStrike">
                <a:solidFill>
                  <a:srgbClr val="00ffff"/>
                </a:solidFill>
                <a:latin typeface="Arial"/>
              </a:rPr>
              <a:t> geração de conflito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380880" algn="just">
              <a:lnSpc>
                <a:spcPct val="100000"/>
              </a:lnSpc>
              <a:spcBef>
                <a:spcPts val="29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ffff"/>
                </a:solidFill>
                <a:latin typeface="Arial"/>
              </a:rPr>
              <a:t>IGAM busca o aprimoramento dos procedimentos de análise e das exigências técnicas, de forma a compatibilizar a atividade minerária e a gestão das águas no Es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6324480"/>
            <a:ext cx="95248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997840" y="6381720"/>
            <a:ext cx="500040" cy="4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34100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Unicode MS"/>
              </a:rPr>
              <a:t>OBRIGA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6324480"/>
            <a:ext cx="95248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8997840" y="6381720"/>
            <a:ext cx="500040" cy="4399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428480" y="2637000"/>
            <a:ext cx="66675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ffff"/>
                </a:solidFill>
                <a:latin typeface="CAC Futura Casual Bold"/>
              </a:rPr>
              <a:t>Maria Luiza Silva Ram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ffff"/>
                </a:solidFill>
                <a:latin typeface="CAC Futura Casual Bold"/>
              </a:rPr>
              <a:t>malu@igam.mg.gov.br</a:t>
            </a:r>
            <a:r>
              <a:rPr b="1" lang="pt-BR" sz="2600" spc="-1" strike="noStrike">
                <a:solidFill>
                  <a:srgbClr val="00ffff"/>
                </a:solidFill>
                <a:latin typeface="Arial Unicode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 Unicode MS"/>
              </a:rPr>
              <a:t>Divisão de Instrumentalização e Contro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 Unicode MS"/>
              </a:rPr>
              <a:t>(DvRC/ IGA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 Unicode MS"/>
              </a:rPr>
              <a:t>Telefone: (31) 3337-3355, ramal 16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ffff"/>
                </a:solidFill>
                <a:latin typeface="Arial Unicode MS"/>
              </a:rPr>
              <a:t>www.igam.mg.gov.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304920"/>
            <a:ext cx="830592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PRINCIPAIS USOS DE RECURSOS HÍDRICOS  NA MINERAÇÃO SUJEITOS A OUTORG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1355760"/>
            <a:ext cx="769608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lnSpc>
                <a:spcPct val="120000"/>
              </a:lnSpc>
              <a:spcBef>
                <a:spcPts val="15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ffff"/>
                </a:solidFill>
                <a:latin typeface="Arial"/>
              </a:rPr>
              <a:t>Captação direta em curso de águ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20000"/>
              </a:lnSpc>
              <a:spcBef>
                <a:spcPts val="15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ffff"/>
                </a:solidFill>
                <a:latin typeface="Arial"/>
              </a:rPr>
              <a:t>Captação em barramento com regularização de vazã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20000"/>
              </a:lnSpc>
              <a:spcBef>
                <a:spcPts val="15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ffff"/>
                </a:solidFill>
                <a:latin typeface="Arial"/>
              </a:rPr>
              <a:t>Poços tubulares e demais estruturas de captação de água subterrâne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20000"/>
              </a:lnSpc>
              <a:spcBef>
                <a:spcPts val="15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ffff"/>
                </a:solidFill>
                <a:latin typeface="Arial"/>
              </a:rPr>
              <a:t>Barramento para disposição de rejeitos, contenção de sedimentos e/ou recirculação de águ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20000"/>
              </a:lnSpc>
              <a:spcBef>
                <a:spcPts val="15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ffff"/>
                </a:solidFill>
                <a:latin typeface="Arial"/>
              </a:rPr>
              <a:t>Rebaixamento de nível d’águ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20000"/>
              </a:lnSpc>
              <a:spcBef>
                <a:spcPts val="15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ffff"/>
                </a:solidFill>
                <a:latin typeface="Arial"/>
              </a:rPr>
              <a:t>Dragagem em curso de água para extração mine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324480"/>
            <a:ext cx="95248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997840" y="6381720"/>
            <a:ext cx="500040" cy="4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838080" y="1371600"/>
            <a:ext cx="8077320" cy="39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IPOS DE CAPT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800"/>
              </a:spcBef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Direta no curso de águ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Em barramento com regularização de vazã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Poços tubular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ume de água captado a ser utilizado nas atividades minerárias de acordo com a disponibilidade hídrica e os critérios de outo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380880"/>
            <a:ext cx="891540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OUTORGA PARA CAPTAÇÃO EM CORPO DE ÁGU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324480"/>
            <a:ext cx="95248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997840" y="6381720"/>
            <a:ext cx="500040" cy="4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95280" y="1981080"/>
            <a:ext cx="7086600" cy="40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Arial"/>
              </a:rPr>
              <a:t>INFORMAÇÕES SOLICITADAS PELO IG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spcBef>
                <a:spcPts val="2100"/>
              </a:spcBef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ffff"/>
                </a:solidFill>
                <a:latin typeface="Arial"/>
              </a:rPr>
              <a:t>Volume de material afluente ao reservatóri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spcBef>
                <a:spcPts val="2100"/>
              </a:spcBef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ffff"/>
                </a:solidFill>
                <a:latin typeface="Arial"/>
              </a:rPr>
              <a:t>Características do material afluent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spcBef>
                <a:spcPts val="2100"/>
              </a:spcBef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ffff"/>
                </a:solidFill>
                <a:latin typeface="Arial"/>
              </a:rPr>
              <a:t>Balanço hídrico entre o volume de água lançado no reservatório e o volume a ser recirculad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spcBef>
                <a:spcPts val="2100"/>
              </a:spcBef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ffff"/>
                </a:solidFill>
                <a:latin typeface="Arial"/>
              </a:rPr>
              <a:t>Dimensionamento das estruturas de descarga considerando a vazão mínima residual e a cheia máxima de proje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6324480"/>
            <a:ext cx="95248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997840" y="6381720"/>
            <a:ext cx="500040" cy="439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25360" y="152280"/>
            <a:ext cx="9074160" cy="14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00"/>
                </a:solidFill>
                <a:latin typeface="Arial"/>
              </a:rPr>
              <a:t>OUTORGA PARA BARRAMENTO COM FINS DE DISPOSIÇÃO DE REJEITO, CONTENÇÃO DE SEDIMENTOS E/OU RECIRCULAÇÃ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295280" y="2104920"/>
            <a:ext cx="7086600" cy="32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QUAL O FOCO DE ANÁLISE DO IG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999"/>
              </a:spcBef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Avaliar a vida útil do barramento em função da sua capacidade de acumulação e das características do material afluent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999"/>
              </a:spcBef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Avaliar o dimensionamento das estruturas de descarga do barramen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6324480"/>
            <a:ext cx="95248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997840" y="6381720"/>
            <a:ext cx="500040" cy="439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25360" y="152280"/>
            <a:ext cx="9074160" cy="14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00"/>
                </a:solidFill>
                <a:latin typeface="Arial"/>
              </a:rPr>
              <a:t>OUTORGA PARA BARRAMENTO COM FINS DE DISPOSIÇÃO DE REJEITO, CONTENÇÃO DE SEDIMENTOS E/OU RECIRCULAÇÃ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762120" y="1730520"/>
            <a:ext cx="838188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3760" indent="-293760" algn="ctr"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O QUE É OUTORG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 algn="just">
              <a:lnSpc>
                <a:spcPct val="150000"/>
              </a:lnSpc>
              <a:spcBef>
                <a:spcPts val="2999"/>
              </a:spcBef>
              <a:buClr>
                <a:srgbClr val="00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O barramento que poderá ter as seguintes finalidad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 algn="just">
              <a:lnSpc>
                <a:spcPct val="150000"/>
              </a:lnSpc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receber a polpa de rejeitos gerada no processo de beneficiament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 algn="just">
              <a:lnSpc>
                <a:spcPct val="150000"/>
              </a:lnSpc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conter os finos e sedimentos existentes nas áreas de extraçã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 algn="just">
              <a:lnSpc>
                <a:spcPct val="150000"/>
              </a:lnSpc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Recirculação de águ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5360" y="152280"/>
            <a:ext cx="9074160" cy="14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00"/>
                </a:solidFill>
                <a:latin typeface="Arial"/>
              </a:rPr>
              <a:t>OUTORGA PARA BARRAMENTO COM FINS DE DISPOSIÇÃO DE REJEITO, CONTENÇÃO DE SEDIMENTOS E/OU RECIRCULAÇÃ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6324480"/>
            <a:ext cx="95248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997840" y="6381720"/>
            <a:ext cx="500040" cy="4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838080" y="1371600"/>
            <a:ext cx="8077320" cy="47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9900"/>
                </a:solidFill>
                <a:latin typeface="Arial"/>
              </a:rPr>
              <a:t>“</a:t>
            </a:r>
            <a:r>
              <a:rPr b="0" lang="pt-PT" sz="2400" spc="-1" strike="noStrike">
                <a:solidFill>
                  <a:srgbClr val="ff9900"/>
                </a:solidFill>
                <a:latin typeface="Arial"/>
              </a:rPr>
              <a:t>O rebaixamento de NA tem por objetivo manter o nível d’água em uma determinada cota que permita a continuidade das atividades de lavra</a:t>
            </a:r>
            <a:r>
              <a:rPr b="0" lang="pt-BR" sz="2400" spc="-1" strike="noStrike">
                <a:solidFill>
                  <a:srgbClr val="ffcc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RUTURAS DE CAPT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ffff"/>
                </a:solidFill>
                <a:latin typeface="Arial"/>
              </a:rPr>
              <a:t>- Poços tubulares (bateria de poço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ffff"/>
                </a:solidFill>
                <a:latin typeface="Arial"/>
              </a:rPr>
              <a:t>- Galerias de drenage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ffff"/>
                </a:solidFill>
                <a:latin typeface="Arial"/>
              </a:rPr>
              <a:t>- Drenos horizontai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ffff"/>
                </a:solidFill>
                <a:latin typeface="Arial"/>
              </a:rPr>
              <a:t>- Bombeamento no fundo da ca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380880"/>
            <a:ext cx="891540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OUTORGA PARA REBAIXAMENTO DE NÍVEL D’ÁGU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6324480"/>
            <a:ext cx="95248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997840" y="6381720"/>
            <a:ext cx="500040" cy="439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058080" y="4724280"/>
            <a:ext cx="93636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6057720" y="5372280"/>
            <a:ext cx="93636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997680" y="4989600"/>
            <a:ext cx="239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STEMA 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BAIXAMEN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09480" y="1171440"/>
            <a:ext cx="8458200" cy="54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ase de Projeto e Pesquisa Hidrogeológ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Objetivo: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ção das características hidrogeológicas e geométricas do aqüífero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ombeamento de poços tubulares (24 horas / pré - rebaixamen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nformações solicitad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Descrição detalhada e cronograma dos estudos técnico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Pré - projeto do sistema de rebaixamento (estruturas de captação, vazões, cotas, et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Autorização para perfuração dos poços tubular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Projeto de instalação da rede de monitoramento hidrológico, pluviométrico e piezométric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Outros dados específicos ao empreendim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277920">
              <a:lnSpc>
                <a:spcPct val="100000"/>
              </a:lnSpc>
              <a:buClr>
                <a:srgbClr val="00ffff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6324480"/>
            <a:ext cx="95248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8997840" y="6381720"/>
            <a:ext cx="500040" cy="439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57200" y="380880"/>
            <a:ext cx="891540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OUTORGA PARA REBAIXAMENTO DE NÍVEL D’ÁGU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09480" y="981000"/>
            <a:ext cx="8458200" cy="52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ase de Projeto e Pesquisa Hidrogeológica (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ontinuação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Resultad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00ffff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Modelo hidrogeológico conceitual e modelo matemático de fluxo subterrâne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00ffff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Definir o sistema de rebaixamento a ser implantad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00ffff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Rede de monitoramento hidrológico, pluviométrico e piezométric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00ffff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Definição da área de influência do rebaixamento e os possíveis impactos na disponibilidade hídric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00ffff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Medidas mitigadoras a serem executadas nos diversos cenários de impacto previ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324480"/>
            <a:ext cx="95248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997840" y="6381720"/>
            <a:ext cx="500040" cy="4399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57200" y="380880"/>
            <a:ext cx="891540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OUTORGA PARA REBAIXAMENTO DE NÍVEL D’ÁGU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5T13:25:36Z</dcterms:created>
  <dc:creator>LCC-DEGEO</dc:creator>
  <dc:description/>
  <dc:language>en-US</dc:language>
  <cp:lastModifiedBy>dico-outorga</cp:lastModifiedBy>
  <dcterms:modified xsi:type="dcterms:W3CDTF">2004-03-15T22:28:38Z</dcterms:modified>
  <cp:revision>248</cp:revision>
  <dc:subject/>
  <dc:title>INTRODUÇÃO</dc:title>
</cp:coreProperties>
</file>